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64D-EE17-45BE-B703-A90D32E2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1F88-32EF-4DD3-AB88-DA82FCA1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AAE-2462-4B5C-87E8-A611F6C6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221-94D1-41C5-B428-64FD9787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ECF-ED08-4246-ABD6-055DACE2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D12-E5F7-4466-8263-C4091239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798-A687-4382-85CC-6D94A564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F20-9AE0-414A-8EDA-3ACE28AF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2DB-68D1-479E-9D83-9BBEFC38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3F9-6587-4542-BFD2-5884CD6D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CAA-7168-47A8-9557-6E4629AC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BCA0-767E-4608-B860-25D38E37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1dff"/>
            </a:gs>
            <a:gs pos="100000">
              <a:srgbClr val="410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3AF1-2B10-4940-B597-30D73F61D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eb.mit.edu/invent/iow/pemberton.html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www.coca-colastore.com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361000">
            <a:off x="609120" y="837720"/>
            <a:ext cx="6945480" cy="46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5856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00ff"/>
                    </a:gs>
                  </a:gsLst>
                  <a:lin ang="664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ca-Col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9900ff"/>
                  </a:gs>
                </a:gsLst>
                <a:lin ang="664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257800" y="57150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525312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22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019920"/>
            <a:ext cx="6934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ing_Into_Tears_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March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reeplaymusic.com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20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Pemberton"/>
          <p:cNvPicPr/>
          <p:nvPr/>
        </p:nvPicPr>
        <p:blipFill>
          <a:blip r:embed="rId2"/>
          <a:stretch/>
        </p:blipFill>
        <p:spPr>
          <a:xfrm>
            <a:off x="0" y="0"/>
            <a:ext cx="4648320" cy="4952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00600" y="44197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emberton"/>
          <p:cNvPicPr/>
          <p:nvPr/>
        </p:nvPicPr>
        <p:blipFill>
          <a:blip r:embed="rId3"/>
          <a:stretch/>
        </p:blipFill>
        <p:spPr>
          <a:xfrm>
            <a:off x="0" y="4719600"/>
            <a:ext cx="9144000" cy="2138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48320" y="28954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Lemelson MIT, 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</a:rPr>
              <a:t>Pemberton,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-28-11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pembert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16in. Bullseye Metal Sign"/>
          <p:cNvPicPr/>
          <p:nvPr/>
        </p:nvPicPr>
        <p:blipFill>
          <a:blip r:embed="rId5"/>
          <a:stretch/>
        </p:blipFill>
        <p:spPr>
          <a:xfrm>
            <a:off x="4648320" y="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19920" y="0"/>
            <a:ext cx="3124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Coca-Cola Store ,</a:t>
            </a:r>
            <a:r>
              <a:rPr b="0" lang="en-US" sz="2800" spc="-1" strike="noStrike" u="sng">
                <a:solidFill>
                  <a:srgbClr val="66ffff"/>
                </a:solidFill>
                <a:uFillTx/>
                <a:latin typeface="Arial"/>
              </a:rPr>
              <a:t> Bulls eye metal sign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,2-28-11 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coca-colastor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ion: Coca-C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Until 1905, it contained extracts of cocaine and the Kola nut.</a:t>
            </a:r>
            <a:r>
              <a:rPr b="0" lang="en-US" sz="2800" spc="-1" strike="noStrike">
                <a:solidFill>
                  <a:srgbClr val="0000ff"/>
                </a:solidFill>
                <a:latin typeface="com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60093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mic"/>
              </a:rPr>
              <a:t>Today billions drink Coca-Cola everyday in nearly every nation in the world.</a:t>
            </a:r>
            <a:r>
              <a:rPr b="0" lang="en-US" sz="2400" spc="-1" strike="noStrike">
                <a:solidFill>
                  <a:srgbClr val="660066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By the end of the decade, Coca-Cola had become one of the nations most popular fountain drinks, sold all over the Untied States, as well as Can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"/>
              </a:rPr>
              <a:t>During the company’s early years, the Coca-Cola formula was alternated several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"/>
              </a:rPr>
              <a:t>They began selling Coca-Cola in the bottles and also selling syrup to independent bottling compa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43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9900ff"/>
            </a:gs>
            <a:gs pos="100000">
              <a:srgbClr val="ff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nventor: John Pembe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Born in 1831 in Knoxville, Georg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Edwardian Script ITC"/>
              </a:rPr>
              <a:t>He created the original formula in 188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Edwardian Script ITC"/>
              </a:rPr>
              <a:t>He fought in for the South during the Civil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Edwardian Script ITC"/>
              </a:rPr>
              <a:t>He moved to Atlanta after the war where he began selling patent medicines and operated his own laboratory, the Pemberton Chemical 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Edwardian Script ITC"/>
              </a:rPr>
              <a:t>Pemberton Is remembered for the drink as well as for his contributions to medical reform and chem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42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2:16Z</dcterms:created>
  <dc:creator>install</dc:creator>
  <dc:description/>
  <dc:language>en-US</dc:language>
  <cp:lastModifiedBy>install</cp:lastModifiedBy>
  <dcterms:modified xsi:type="dcterms:W3CDTF">2011-03-11T18:30:59Z</dcterms:modified>
  <cp:revision>12</cp:revision>
  <dc:subject/>
  <dc:title>Slide 1</dc:title>
</cp:coreProperties>
</file>